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png" ContentType="image/png"/>
  <Override PartName="/ppt/media/image28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A19E-2890-4A60-A9DE-343239063F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3698-A93E-4EB6-AEC7-7832F4723D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2F60-FADA-4872-B43A-50974EBDE4A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A03-27CD-4A4E-8DB0-7E49FF35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628-BAB2-4F49-BA06-89FF75F6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BB60-46B5-42E0-86BA-447C7C00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FE2-4241-4344-A470-2A0D87FD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57B4-F03F-48DF-8A09-89DAC29E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DBCA-6E1E-488E-8E19-FA3FEE23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B00A-10B4-4BD4-B0E1-D418F9EF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9AB3-4CEC-42AA-A9B7-9D26C74F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63BE-C84F-4920-A0D7-F2E24FFE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A1A3-CB9E-4C7C-BF54-BAFCE6AC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8AE2-E3AA-4040-8D09-58843233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9FFE-34A3-4B06-A1AF-E7CA50FC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EDE7-FB40-4F69-A14C-BF0512B0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958B-70EB-4201-A535-B3E8AAEA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1CAF-2687-45B7-8E86-8E40443A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6D71-854C-4E36-87D0-15CD45AD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857C-B508-481A-8707-FDCA36D7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33C72-E6AD-4F6E-9FDF-CF799E03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7104E-A7FA-47DA-88AE-8C792683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04FBC-D9F4-4889-AE32-94483142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EEA3D-9641-43DC-9FDF-301C6C49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F0823-5E91-44CB-9B74-221DD0AB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5AB0-4701-4A50-83E4-774AD3E8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451E5-E7F1-47DA-9325-D658399E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8582F-FF6A-4A2E-8347-38BA3815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E94D9-216B-4E9D-9370-8D983F04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4F49F-316A-4022-9B68-3EBC1D13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A6B87-3468-4E3B-B142-DCB5A078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40551-488A-4B2D-820D-7B22D257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29675-210A-4530-A1F5-E8FE9951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64F2D-22DB-4615-8745-D75E7EB4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55AF7-C1CA-422F-B5D3-E7C25DCD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F1403-145B-4A69-BC30-E687D927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EA8E-4216-422C-9129-D6227406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3476E-5EFE-4398-888D-82D0859A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ED806-4D69-42E3-B632-9587294A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ED409-2E80-4B02-85EA-C4E11730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2F54E-033F-4D62-8900-3DEBB580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4893F-40A1-4390-A2C3-6851C07A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2EA67-09B0-46BF-8E62-7ECC331C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5C4A0-397E-4651-8DF3-E0709BB5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83401-9011-4CE0-810C-35B02A51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422A7-4B70-4C57-A589-54A0E482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37373-DEFC-4F70-A0C1-0FC413DC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09A-6FE6-45AD-AB2C-6C4DB141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13A3F-4CBE-49EE-9A00-406A06C2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43908-17FE-499E-9559-3E74152D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4F6AD-86B4-4958-AF29-4AD33830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CDCFC-FA0D-468B-9B65-56EA72A3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6516B-1787-47BC-B674-EA27B9E9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023BA-A4E6-4113-88E2-D019D530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92D86-64A1-412B-A74D-F3079759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FFB04-2775-4AAA-B081-A494B8DF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A4343-52A7-41C7-A7F8-DB618B2F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DE74B-DCDD-4760-8565-71509D99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825-B76A-4AE2-94CF-B4416FE6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62F30-4487-4F58-9737-59952603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77A2-1E9B-4D69-9164-84453CA5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AB0-06C0-4FFE-80C8-22C0F577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B8F-6299-4165-BC23-74AB6FDB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CFD1-A7C1-455F-8033-509BEFAF8047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4667-D8DA-48E2-BDA6-50E788828EE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7264-C709-4F77-A47A-E944364AB9D7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6721-D7B5-4BF2-BFD2-F64215338A1F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0F01-49D9-44C4-A857-0F1554241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екция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Основы химической кинетики и химическое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Донско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Кафедра «Хим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760" y="4221000"/>
            <a:ext cx="4124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Рекомендуемая литерату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Л. Глинка, Общая химия, М.: Химия,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В.Коровин Общая химия, М.: Высшая школа,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.И.Гельфман, В.П.Юстратов Химия, СПб.: Лань,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istry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.msu.su/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7680" y="4365720"/>
            <a:ext cx="21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Е. Г. Задошенк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2011 -2012 учебный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395280" y="141300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тим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которые при одних и тех же условиях протекают в прямом и обратном направлен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ратимыми реакц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ются реакции, которые протекают только в одном направлении, т.е. продукты этих реакций не взаимодействуют друг с другом с образованием исход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2700360" y="2276640"/>
          <a:ext cx="434340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276640"/>
                    <a:ext cx="4343400" cy="1158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1476360" y="5516640"/>
          <a:ext cx="6424560" cy="83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5516640"/>
                    <a:ext cx="64245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280360" cy="744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250920" y="126576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скоростью гом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единице объема системы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6338880" y="1125360"/>
                <a:ext cx="25671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ом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Rectangle 4"/>
          <p:cNvSpPr/>
          <p:nvPr/>
        </p:nvSpPr>
        <p:spPr>
          <a:xfrm>
            <a:off x="250920" y="45788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скоростью гетер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на единице поверхности раздела ф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6372360" y="4869000"/>
                <a:ext cx="257004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етер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Прямоугольник 6"/>
          <p:cNvSpPr/>
          <p:nvPr/>
        </p:nvSpPr>
        <p:spPr>
          <a:xfrm>
            <a:off x="179280" y="3213000"/>
            <a:ext cx="63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ю химической реа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зывают изменение концентрации реагирующих веществ в единицу времен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6877080" y="2852640"/>
                <a:ext cx="14857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4"/>
          <p:cNvSpPr/>
          <p:nvPr/>
        </p:nvSpPr>
        <p:spPr>
          <a:xfrm>
            <a:off x="5076720" y="333360"/>
            <a:ext cx="388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яя скорость реак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конечное изменение концентра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тносящееся к промежутку време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5"/>
          <p:cNvSpPr/>
          <p:nvPr/>
        </p:nvSpPr>
        <p:spPr>
          <a:xfrm>
            <a:off x="4930920" y="2852640"/>
            <a:ext cx="42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тинная (мгновенная) скорос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еакции определяется тангенсом угла наклона касательной в точке, соответствующей данному моменту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0"/>
              <p:cNvSpPr txBox="1"/>
              <p:nvPr/>
            </p:nvSpPr>
            <p:spPr>
              <a:xfrm>
                <a:off x="7093080" y="1628640"/>
                <a:ext cx="17190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164360" y="4076640"/>
                <a:ext cx="16826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d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Прямоугольник 28"/>
          <p:cNvSpPr/>
          <p:nvPr/>
        </p:nvSpPr>
        <p:spPr>
          <a:xfrm>
            <a:off x="324000" y="4869000"/>
            <a:ext cx="38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онцентрации исходного вещества (1) и продукта реакции (2)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97440" cy="3593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611280" y="0"/>
            <a:ext cx="8820000" cy="1341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835280" y="1483920"/>
            <a:ext cx="6681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я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состояние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ический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481800" cy="820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1843200" cy="2043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179280" y="148428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в 1867 г.  норвежскими ученными математиком Като Максимилианом  Гульдбергом и химиком Петером Ваа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179280" y="2060640"/>
            <a:ext cx="8715600" cy="12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ой реакции прямо пропорциональна произведению концентраций реагирующих веществ в степенях их стехиометрических коэффици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9"/>
          <p:cNvSpPr/>
          <p:nvPr/>
        </p:nvSpPr>
        <p:spPr>
          <a:xfrm>
            <a:off x="1928880" y="4000680"/>
            <a:ext cx="70009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нахождения молекул А и В в точке R зависит от их концентр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α[A]         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β[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сложного события (т.е. их столкновения) равна произведению вероятностей простых собы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α[A]·β[B]        α·β = 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k [A]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B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3"/>
          <p:cNvSpPr/>
          <p:nvPr/>
        </p:nvSpPr>
        <p:spPr>
          <a:xfrm>
            <a:off x="1835280" y="342900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атематическое обоснование закона действующих масс для реакции А + В =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72320" cy="9554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6"/>
          <p:cNvSpPr/>
          <p:nvPr/>
        </p:nvSpPr>
        <p:spPr>
          <a:xfrm>
            <a:off x="324000" y="1484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нетическое урав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математическое выражение, связывающие скорость реакции с концентрацией реагиру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900000" y="3573360"/>
                <a:ext cx="2872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4356000" y="3500280"/>
                <a:ext cx="29559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Прямоугольник 12"/>
          <p:cNvSpPr/>
          <p:nvPr/>
        </p:nvSpPr>
        <p:spPr>
          <a:xfrm>
            <a:off x="324000" y="4292640"/>
            <a:ext cx="78580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84360" y="5177520"/>
            <a:ext cx="76435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(к) + 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12"/>
          <p:cNvGraphicFramePr/>
          <p:nvPr/>
        </p:nvGraphicFramePr>
        <p:xfrm>
          <a:off x="2627280" y="2708280"/>
          <a:ext cx="347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708280"/>
                    <a:ext cx="347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2"/>
          <p:cNvSpPr/>
          <p:nvPr/>
        </p:nvSpPr>
        <p:spPr>
          <a:xfrm>
            <a:off x="214200" y="142884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79280" y="234936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зический смыс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численно равна скорости реакции, при концентрации реагирующих веществ равной еди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"/>
          <p:cNvSpPr/>
          <p:nvPr/>
        </p:nvSpPr>
        <p:spPr>
          <a:xfrm>
            <a:off x="250920" y="4724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зависит от природы реагирующих веществ, температуры и присутствия катализаторов, но не зависит от концентрации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240600" cy="877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2"/>
          <a:srcRect l="0" t="0" r="0" b="4710"/>
          <a:stretch/>
        </p:blipFill>
        <p:spPr>
          <a:xfrm>
            <a:off x="324000" y="1413000"/>
            <a:ext cx="2716200" cy="37144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9"/>
          <p:cNvSpPr/>
          <p:nvPr/>
        </p:nvSpPr>
        <p:spPr>
          <a:xfrm>
            <a:off x="405720" y="53737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коб Хендр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нт-Гоф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3214800" y="114300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повышении температуры на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скорость химической реакции увеличивается в 2-4 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3500280" y="2714760"/>
                <a:ext cx="4880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Прямоугольник 13"/>
          <p:cNvSpPr/>
          <p:nvPr/>
        </p:nvSpPr>
        <p:spPr>
          <a:xfrm>
            <a:off x="3214800" y="4071960"/>
            <a:ext cx="557208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емпературный коэффициент, принимает значения от 2 до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8251920" cy="6778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2771640" y="907920"/>
            <a:ext cx="60865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ия активных столкновений позволяет вывести математическое соотношение между скоростью реакции, частотой столкновений и вероятность того, что энергия молекул превосходит величину 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rcRect l="2833" t="0" r="0" b="0"/>
          <a:stretch/>
        </p:blipFill>
        <p:spPr>
          <a:xfrm>
            <a:off x="179280" y="1700280"/>
            <a:ext cx="2440080" cy="3321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232200" y="537372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анте Авгу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рениу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3564000" y="328464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УРАВНЕНИЕ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АРРЕН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4572000" y="3716280"/>
                <a:ext cx="25876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Прямоугольник 9"/>
          <p:cNvSpPr/>
          <p:nvPr/>
        </p:nvSpPr>
        <p:spPr>
          <a:xfrm>
            <a:off x="3276720" y="4653000"/>
            <a:ext cx="5715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скорости реа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число столкнов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ниверсальная газовая постоянн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абсолютная температу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нергия актив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755640" y="0"/>
            <a:ext cx="7697880" cy="795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929120" cy="34290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4"/>
          <p:cNvSpPr/>
          <p:nvPr/>
        </p:nvSpPr>
        <p:spPr>
          <a:xfrm>
            <a:off x="0" y="4857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ределение молекул по кинетической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5219640" y="90792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нергия активации –минимальная энергия, которая необходима для химического взаимо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нергию активации можно рассматривать как некоторый энергетический барьер, который должны преодолеть сталкивающиеся молеку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1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39640" y="141300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нятия и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активных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переходно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Ле Шател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мещение химического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37520" cy="82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rcRect l="2204" t="15004" r="3861" b="3754"/>
          <a:stretch/>
        </p:blipFill>
        <p:spPr>
          <a:xfrm>
            <a:off x="755640" y="2276640"/>
            <a:ext cx="7772400" cy="3946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3956040" cy="94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193760" y="189000"/>
            <a:ext cx="7950240" cy="723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0" y="1484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6084720" y="1052640"/>
            <a:ext cx="28083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нергия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ис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исхо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ко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продуктов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епловой эффект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250920" y="126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а, не расходующие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езультате протекания реакции, но влияющие на ее скорость называю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ат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вление изменения скорости реакции под действием катализаторов называю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324000" y="3213000"/>
            <a:ext cx="8501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ханизм действия катализат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стадия:            А + К → А … К → 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тадия:          АК + В → В … АК → АВ +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ходе реакции катализатор не расход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изатор изменяет путь реакции и тем самым влияет на энергию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658800" y="189000"/>
            <a:ext cx="8485200" cy="131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558200" cy="48006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092640" cy="744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2"/>
          <p:cNvSpPr/>
          <p:nvPr/>
        </p:nvSpPr>
        <p:spPr>
          <a:xfrm>
            <a:off x="179280" y="1197000"/>
            <a:ext cx="864396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омогенном катализе -  катализатор  и реагирующие вещества находятся в  одной ф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179280" y="3141720"/>
            <a:ext cx="86439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етерогенном катализе  – катализатор и реагенты находятся в разных фа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 + 1/2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+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14200" y="5786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ферментативном катализе – катализатором являются сложные белковые молекулы (энзи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296040" cy="10285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250920" y="1413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ояние обратимой реакции, при котором скорость прямой реакции равна скорости обратной реакции, называется химическим равновес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05432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342576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5292720" y="3789360"/>
                <a:ext cx="3003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5219640" y="4581360"/>
                <a:ext cx="31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427640" y="5661000"/>
                <a:ext cx="4360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704880" y="189000"/>
            <a:ext cx="8439120" cy="815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285840" y="11386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анта химического равновес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это отношение произведения равновесных концентраций продуктов реакции к произведению равновесных концентраций исходных веществ, при чем все вещества находятся в степенях численно равных их стехиометрическим коэффициен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287440" y="3357720"/>
                <a:ext cx="44118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об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</m:num>
                      <m:den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7"/>
          <p:cNvSpPr/>
          <p:nvPr/>
        </p:nvSpPr>
        <p:spPr>
          <a:xfrm>
            <a:off x="428760" y="4548600"/>
            <a:ext cx="8286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ых реак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9"/>
          <p:cNvSpPr/>
          <p:nvPr/>
        </p:nvSpPr>
        <p:spPr>
          <a:xfrm>
            <a:off x="395280" y="5661000"/>
            <a:ext cx="8501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ых реакций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O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Z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в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5094360" y="4653000"/>
                <a:ext cx="2593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5219640" y="5734080"/>
                <a:ext cx="1830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5747040" cy="7444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539640" y="1052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ое равновесие является подвижным. При изменении внешних условий скорости прямой и обратной реакций могут стать неодинаковыми, что обуславливает смещение (сдиг) равновесия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2743200" cy="3257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708360" y="2606040"/>
            <a:ext cx="5072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84 г. французский химик Анри Луи Ле Шателье сформулировал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на равновесную систему оказать внешнее воздействие, то равновесие смещается в сторону той реакции (прямой или обратной), которая противодействует этому воздейств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5280" y="58788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ри Лу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 Шател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863640" y="0"/>
            <a:ext cx="8280360" cy="13399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395280" y="1555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Концентр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При увеличении (уменьшении) концентрации реагирующих веществ и при уменьшении (увеличении) концентрации продуктов реакции химическое равновесие смещается вправо (влев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95280" y="3284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Давлени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увеличении (уменьшении) давления равновесие смещается в сторону уменьшения (увеличения) числа молекул (молей) газообраз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428760" y="4929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Температура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(понижение) температуры приводит к смещению химического равновесия в сторону эндотермической (экзотермической)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4435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468360" y="1916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Л. Глинка, Общая химия, М.: Химия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emistry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 chem.msu.su/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7"/>
          <p:cNvSpPr/>
          <p:nvPr/>
        </p:nvSpPr>
        <p:spPr>
          <a:xfrm>
            <a:off x="250920" y="127080"/>
            <a:ext cx="864396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ОСНОВНЫЕ ПОНЯ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И ОПРЕД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ая кинетика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 химии, изучающий скорости и механизмы химических процессов, а также зависимость их от различ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зм реакци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оследовательность отдельных простейших (элементарных) стадий реакции, в результате которых происходит образование конеч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оретическ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оит в том, что она позволяет проникнуть в сущность механизма химическ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кладн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яется тем, что для практического использования какой-либо реакции необходимо управлять ею, т.е. знать скорость ее протекания в данных условиях и способы изменения этой скор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12120" cy="811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684000" y="1844640"/>
            <a:ext cx="8280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частиц, участвующих в элементарном акте реакции (молекуля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фаз, участвующих в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именимости катализ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епени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ханизму протек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15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360" y="1628640"/>
            <a:ext cx="8400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ярность реакци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инимальное число молекул, участвующих в элементарном химическом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молекулярные реакции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молекулярные реа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молекулярные ре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NO +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 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O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N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28200" cy="116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78920" y="1773360"/>
            <a:ext cx="86439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м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однородной среде ( в одной фазе). Например, в газообразной фазе или жидком растворе. Гомогенные реакции протекают равномерно во всем объеме реакционн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тер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неоднородной среде, т.е. между веществами, которые находятся в разных фазах (твердой и жидкой, газообразной и жидкой и т.д.). Гетерогенные  реакции идут на границе раздела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004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литические реа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под действием кат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+  В  = 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аталитические реак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еакции, в которых катализатором является один из продуктов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ри разложении перманганата калия образуется оксид марганц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катализатором для данн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705560" y="27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протекающие в одну стадию, в них участвуют только частицы, входящие в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идущие в несколько стадий, которые идут последовательно, либо параллельно, либо  последовательно-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Object 3"/>
          <p:cNvGraphicFramePr/>
          <p:nvPr/>
        </p:nvGraphicFramePr>
        <p:xfrm>
          <a:off x="5651640" y="2924280"/>
          <a:ext cx="242568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924280"/>
                    <a:ext cx="24256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Прямоугольник 6"/>
          <p:cNvSpPr/>
          <p:nvPr/>
        </p:nvSpPr>
        <p:spPr>
          <a:xfrm>
            <a:off x="250920" y="1628640"/>
            <a:ext cx="864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оват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 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межуточными стадиями, когда продукт предыдущей стадии служит исходным веществом для последующ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H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HCl + C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250920" y="3429000"/>
            <a:ext cx="8675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лл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, в которых исходные вещества способны  образовывать разные продукты реакции или одно вещество  о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 реагировать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колькими вещест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 3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7072200" y="4857840"/>
          <a:ext cx="1603440" cy="16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2200" y="4857840"/>
                    <a:ext cx="16034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6:49:40Z</dcterms:created>
  <dc:creator>Елена</dc:creator>
  <dc:description/>
  <dc:language>en-US</dc:language>
  <cp:lastModifiedBy>User</cp:lastModifiedBy>
  <dcterms:modified xsi:type="dcterms:W3CDTF">2011-09-13T05:22:22Z</dcterms:modified>
  <cp:revision>105</cp:revision>
  <dc:subject/>
  <dc:title>ОСНОВЫ ХИМИЧЕСКОЙ КИНЕТИКИ И ХИМИЧЕСКОЕ РАВНОВЕСИЕ</dc:title>
</cp:coreProperties>
</file>